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8320" y="763200"/>
            <a:ext cx="549432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47F33-F5B2-461C-B21A-0771E4FCD1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5FA95-2043-4DB0-A5B2-DFAE7EB54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2D4A8-3801-4855-8B54-BA8857AF6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FB49-51EC-4888-BEAC-DCBBF03A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90694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29360"/>
            <a:ext cx="90694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683A-46E3-4FD3-9CE5-EAEC0357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2936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2936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FB9-9E0A-485B-B896-F268783E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05704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205704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2936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2936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2936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E752-6743-4695-9C4B-517EA4EC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726E-364D-41D2-A439-69FC944F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2057040"/>
            <a:ext cx="90694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7D41-0FCB-4B02-A83D-DE69A687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90694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B04C-26E0-4CE2-9C0C-0893912D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44258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2057040"/>
            <a:ext cx="44258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EE09-8BA3-44EF-8423-0DF7DA6B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D21D-2BE3-48F7-A207-F9FDEE1A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0574-12DA-4E35-889B-D777A8A4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2057040"/>
            <a:ext cx="44258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2936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1CD9-789D-43F8-AC35-59B0890E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2057040"/>
            <a:ext cx="90694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81FA-F980-4EF9-B25B-C70E496F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44258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2936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C44D-0F37-4EF8-AD61-6A8FFD81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29360"/>
            <a:ext cx="90694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E501-1121-4CE9-8D9A-EA790AE5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90694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29360"/>
            <a:ext cx="90694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E7E4-7F64-4D5D-A35A-DD455B68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2936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2936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A1E4-2962-4BCD-9DD4-7650FBD0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205704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205704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2936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2936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2936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E335-0AD6-4D68-B9A2-CAB37A38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90694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3FC7-4F7E-427E-8E74-9152FD18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44258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057040"/>
            <a:ext cx="44258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AE99-E16D-437C-8E8B-38F76A8F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CA3-42CA-4C37-8791-944EF032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D458-F2A6-4077-80DF-CF1434EC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057040"/>
            <a:ext cx="44258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2936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09E5-2F50-4C73-8700-48767B35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44258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2936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25B-156C-4FE6-8339-7AC8756C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29360"/>
            <a:ext cx="90694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97B-6D3B-4F7E-B237-29ECA68A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0B21C-E155-41E7-A60B-40404D4FD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2057040"/>
            <a:ext cx="90694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224B6-469A-4749-B759-B2C0A44AE7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thaonline.com/bow-and-" TargetMode="External"/><Relationship Id="rId3" Type="http://schemas.openxmlformats.org/officeDocument/2006/relationships/hyperlink" Target="http://www.mrfizzix.com/archery/aero.html" TargetMode="External"/><Relationship Id="rId4" Type="http://schemas.openxmlformats.org/officeDocument/2006/relationships/hyperlink" Target="http://www.mrfizzix.com/archery/aero.html" TargetMode="External"/><Relationship Id="rId5" Type="http://schemas.openxmlformats.org/officeDocument/2006/relationships/hyperlink" Target="http://www.mrfizzix.com/archery/bow.html" TargetMode="External"/><Relationship Id="rId6" Type="http://schemas.openxmlformats.org/officeDocument/2006/relationships/hyperlink" Target="http://www.mrfizzix.com/archery/bow.html" TargetMode="External"/><Relationship Id="rId7" Type="http://schemas.openxmlformats.org/officeDocument/2006/relationships/hyperlink" Target="http://mrfizzix.com/archery/types.html" TargetMode="External"/><Relationship Id="rId8" Type="http://schemas.openxmlformats.org/officeDocument/2006/relationships/hyperlink" Target="http://mrfizzix.com/archery/types.html" TargetMode="External"/><Relationship Id="rId9" Type="http://schemas.openxmlformats.org/officeDocument/2006/relationships/hyperlink" Target="http://www.grc.nasa.gov/WWW/K-12/airplane/newton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Physics of Shooting a Bow and Arrow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" y="2101680"/>
            <a:ext cx="907092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ohn Will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Driving Questio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90694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at really happens when a bowstring from a drawn bow is releas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The Bow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2057400"/>
            <a:ext cx="907092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ows come in many varieties – they could be made of wood, fiberglass, or spring ste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ir main function is to store high amounts of potential energy and to release it into the nocked arrow as kinetic ener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The Arrow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90694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rows are typically made of wood, aluminum, or carbon fi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y are the ammunition for the b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 pastimes, they had stone tips, but now they have aluminum tips that are change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Physic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90694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bow, when pulled back, stores massive amounts of potential energy.  That potential energy is immediately converted into kinetic energy when the bowstring is released by the arc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en the kinetic energy forces the arrow forward, the arrow travels in the shape of a parabola.  This is because the force of gravity is working against the force of the arrow, just like everything else it works again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Physic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951200"/>
            <a:ext cx="90694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ir works as a liquid to an arrow.  This means that air creates drag for the arrow.  Drag is a force that prevents something from moving; similar to fri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Newton’s Laws of Motio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90694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very object persists in its state of rest or uniform motion in a straight line unless it is compelled to change by forces impressed on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orce is equal to change in momentum (mV) per change in time.  For a constant mass, force equals mass times acceleration. F=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or every action, there is an equal and opposite re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Citation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90694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7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"Bow and Arrow - a History."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ow Hunting (bowhunting) &amp; Bow Fishing (bowfishing) from ATHA Online Texa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 Web. 10 May 2010.</a:t>
            </a:r>
            <a:br>
              <a:rPr sz="2000"/>
            </a:b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&lt;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athaonline.com/bow-and-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rrow.html&gt;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"Arrow Flight."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hysics Mr. Fizzix Mr. Physics High School Physics of Project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 Web. 10 May 2010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&lt;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mrfizzix.com/archery/aero.htm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&gt;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"The Bow."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hysics Mr. Fizzix Mr. Physics High School Physics of Project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 Web. 10 May 2010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&lt;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mrfizzix.com/archery/bow.htm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&gt;.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"The Bow."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hysics Mr. Fizzix Mr. Physics High School Physics of Project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 Web. 10 May 2010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mrfizzix.com/archery/types.html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gt;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"Newton's Laws of Motion."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NASA - Title...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Web. 13 May 2010.</a:t>
            </a:r>
            <a:br>
              <a:rPr sz="20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ttp://www.grc.nasa.gov/WWW/K-12/airplane/newton.html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7:27:24Z</dcterms:created>
  <dc:creator>John Willis</dc:creator>
  <dc:description/>
  <dc:language>en-US</dc:language>
  <cp:lastModifiedBy> </cp:lastModifiedBy>
  <dcterms:modified xsi:type="dcterms:W3CDTF">2010-05-14T01:33:14Z</dcterms:modified>
  <cp:revision>12</cp:revision>
  <dc:subject/>
  <dc:title>Physics of Shooting a Bow and Arrow</dc:title>
</cp:coreProperties>
</file>